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24A-6255-44A6-A013-68968F2D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7FB-5D37-4675-B732-29963AF1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178-EA25-4D71-8BB6-356549DE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A22-B98C-4740-BD30-BB9B1843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41BF5-0A72-4C70-A669-FDCDC85B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F6B2E-C665-4A26-9275-12A48713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81E21-2C96-4065-8274-C9D78ADD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04201-A7FF-4F45-A64A-83D888E8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681F8-2D46-42AB-AC15-720B7CE3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53F52-23BA-453F-8775-3FC4F367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E2349-9858-439E-B20F-7964B695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2815-6783-4054-94CC-CC2BB5F0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9BC96-1952-453B-B63C-A2EE2689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40954-9E9A-4E16-8941-DF08A842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E7DDB-FB8A-40AE-BC7E-E5EDE967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A68FB-4C14-49CF-A251-06500038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F9F54-DF82-4199-BCE1-98CEF27C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F57-076C-4035-9017-E0FF8205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B235-BBCA-408D-ADE7-8CAE33CA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22A-239D-4F7B-9621-81F657EC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9C9-063A-4BFB-917B-F1766E08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F805-1D08-4697-8216-BE815652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150-A72F-4F88-A8DE-E4BE7ED2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71C-FFC8-4C2A-BA80-EC7DD9FE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2A9F-575C-4DF7-BEA2-12B81DCA6B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C25E-E9D9-4473-A855-157F59CD54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oals for Revising a Business Lett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udents will be able 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-542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derstand that business letters are efficient for the read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-542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y and implement the three parts of a business letter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-542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reciate a deeper understanding of the revision phase of the writing process as it pertains to business wri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-542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se business letters focusing on making them more conci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2160" indent="-5421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ise business letters making them reader friendly by including pertinent information for the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) Closing/Conclusion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ish with a call for action (What should the reader do? When? Any future contact? How?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’m not a very good writer, but I’m an excellent rewrit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James Miche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pert Voices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ffey, M. E. (2010). Essentials of Business Communication. Mason: South-Western Cengage Learn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lton, J. (1996). Handbook for Technical Writing. Chicago: N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nRys, J., Meyer, V., &amp; Sebranek, P. (2006). The Business Writer. Boston: Houghton Miffl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228564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first draft of anything is shi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”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Ernest Heming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rue or False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ise writing gives only needed information to the rea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ise Writing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s exactly what the reader needs and not a bit more or less. Bloated writing with superfluous information serves to confuse and obscure… There is nothing that will kill a reader’s interest faster than rambling writing that takes five pages to say what could be said in one paragraph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Good writing is rewriting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Truman Capo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letter typically sends a message to someone outside of your company/ organiz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letters always contains THREE parts (not necessarily thre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ragraph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) Opening/Introduction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the reason/situation for writing, including any necessary background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) Middle/Body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 a full explanation logically and courteously including any supporting detai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3:46:21Z</dcterms:created>
  <dc:creator>Salinger</dc:creator>
  <dc:description/>
  <dc:language>en-US</dc:language>
  <cp:lastModifiedBy>Salinger</cp:lastModifiedBy>
  <dcterms:modified xsi:type="dcterms:W3CDTF">2011-06-19T17:29:25Z</dcterms:modified>
  <cp:revision>17</cp:revision>
  <dc:subject/>
  <dc:title>Slide 1</dc:title>
</cp:coreProperties>
</file>